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CA8-FDAB-4CFA-BC83-C00CE486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71F-84AB-43EA-BF48-5AD16B0E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BA4-AAC0-4FC1-91E7-30956CC7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959-37AD-4B8E-9411-AD722825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C3E-81B9-4781-96C1-50C1B72C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523-151D-4240-97E3-1777753F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6AA-7E19-4F15-81B4-9E43C5CA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30C-D69E-4114-806F-D780C098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3BD-CC9B-419E-8F7C-730F95EB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CFC-C13C-437C-A59B-D003C475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192-1D1F-4389-8929-382245B6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62F-795F-4E6A-87A4-E63A1D5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80A0-505B-4375-912F-7E95C63E05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oXtd_XRb3U" TargetMode="External"/><Relationship Id="rId2" Type="http://schemas.openxmlformats.org/officeDocument/2006/relationships/hyperlink" Target="http://www.youtube.com/watch?v=9oXtd_XRb3U" TargetMode="External"/><Relationship Id="rId3" Type="http://schemas.openxmlformats.org/officeDocument/2006/relationships/hyperlink" Target="http://www.youtube.com/watch?v=9oXtd_XRb3U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0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24360" y="333360"/>
            <a:ext cx="5003640" cy="936720"/>
          </a:xfrm>
          <a:prstGeom prst="wedgeRectCallout">
            <a:avLst>
              <a:gd name="adj1" fmla="val -54504"/>
              <a:gd name="adj2" fmla="val 14152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I have a dream…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92280"/>
            <a:ext cx="95774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0000"/>
                </a:solidFill>
                <a:latin typeface="Arial"/>
              </a:rPr>
              <a:t>Martin Luther K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0000"/>
                </a:solidFill>
                <a:latin typeface="Arial"/>
              </a:rPr>
              <a:t>a prophet of the 20th Century</a:t>
            </a:r>
            <a:r>
              <a:rPr b="1" lang="de-DE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d1d1cb"/>
                </a:solidFill>
                <a:latin typeface="Arial"/>
              </a:rPr>
              <a:t>2.1 His method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6756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nviolent resistance isn’t a method for co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protest by boycot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don’t hate your ri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should destroy  bad a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ever not the bad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equently life after the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native to war, ruination, hate or prejudice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2.2 His dream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ame righ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ardless from the skin colour or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gust 1963 speech in front of 250 000 peo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f-confidence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uppor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vil Rights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GB" sz="20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=9oXtd_XRb3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3. The American Civil Rights Movement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14488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al treatment of ra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me laws and human righ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n-violence between black and white people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4. Assassination 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rvived three bomb attac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s arrested 29 tim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th of April, 1968 he was shot dead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5. The results of his work</a:t>
            </a:r>
            <a:br>
              <a:rPr sz="3600"/>
            </a:br>
            <a:r>
              <a:rPr b="0" lang="en-GB" sz="3400" spc="-1" strike="noStrike">
                <a:solidFill>
                  <a:srgbClr val="d1d1cb"/>
                </a:solidFill>
                <a:latin typeface="Arial"/>
              </a:rPr>
              <a:t>5.1 Awards and recognitions</a:t>
            </a:r>
            <a:endParaRPr b="0" lang="en-US" sz="3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bel Peace Prize in 196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Presidential Medal of freedom”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in 19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Monday in January is cal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artin Luther King Memorial Day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5.2 What’s with his dream now?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ack mayors i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 c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ack American president Barack Ob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cism is still a part of daily life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Arial"/>
              </a:rPr>
              <a:t>Thank you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Arial"/>
              </a:rPr>
              <a:t>for listening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1d1cb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d conditions for Blacks in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ife of Martin Luther 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s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s d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merican Civil Right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sass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sults of hi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wards and recog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’s with his dream 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d1d1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d1d1cb"/>
                </a:solidFill>
                <a:latin typeface="Arial"/>
              </a:rPr>
              <a:t>Bad conditions for Blacks in America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898560"/>
            <a:ext cx="4502160" cy="59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nvinced 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Grace of God was shown in economic su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d1d1cb"/>
                </a:solidFill>
                <a:latin typeface="Arial"/>
              </a:rPr>
              <a:t>1. Bad conditions for Blacks in America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orked 15 hours a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ostly 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rms, rice- tobacco or sugar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e pla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lavery was banned in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186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acial segregatio i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blic institu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isadvantage and discri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8760" cy="6842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12400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Martin Luther 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321300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2. The life of Martin Luther King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orn on 15th of January, 192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ichael King“ to „Martin Luther King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nour of the German Protestant leade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rtin Luther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udy of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ciology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ology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27280" y="1152360"/>
            <a:ext cx="38005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47530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d1d1cb"/>
                </a:solidFill>
                <a:latin typeface="Arial"/>
              </a:rPr>
              <a:t>2.1 His method 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fro- Americans adjust to the bad conditions of lawlessness sla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fro- Americans could seek after their rights with 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fro- Americans can decided to a nonviolent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d1d1cb"/>
                </a:solidFill>
                <a:latin typeface="Arial"/>
              </a:rPr>
              <a:t>2.1 His method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osa Pa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fus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ive up her s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Boycott the Montgomery bus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35290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5:41:25Z</dcterms:created>
  <dc:creator> </dc:creator>
  <dc:description/>
  <dc:language>en-US</dc:language>
  <cp:lastModifiedBy> </cp:lastModifiedBy>
  <dcterms:modified xsi:type="dcterms:W3CDTF">2010-03-08T20:19:55Z</dcterms:modified>
  <cp:revision>18</cp:revision>
  <dc:subject/>
  <dc:title>Folie 1</dc:title>
</cp:coreProperties>
</file>